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2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28.png" ContentType="image/png"/>
  <Override PartName="/ppt/media/image5.gif" ContentType="image/gif"/>
  <Override PartName="/ppt/media/image14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Click to move the slide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C798-43AD-490A-8049-A30764F0D83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003E-661A-4980-892D-B59866A1331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436B-8718-4A79-A7EE-6CE7D099E61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컴퓨터에 의한 자동화가 인간을 직장에서 밀어낸다는 생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5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대부터 퍼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F2BF-3CA6-4F16-84FD-C4B2C6CACFA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084E-BF8A-41C6-B1C0-0234FD3C90B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ig Blu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라고도 불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단 사용자를 자신의 기계를 사게 만들어서 시장점유율을 올려 놓으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 다음부터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B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만 사용하게 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호환성의 문제 때문에 다른 기계로 옮기기 어려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는 최근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 취한 전략과 동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2576-2883-4D1C-A3A7-E268A8BEE0A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B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6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당시 컴퓨터 시장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80%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상 독차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IBM 1400, 140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6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대 초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2,00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 가량 판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과학자와 기업가를 모두 만족시키겠다는 야심으로 저사양부터 고사양까지 다양한 사양을 갖춘 비교적 합리적인 가격의 시리즈 제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호환성과 유연성에 초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리프로그래밍 없이 간단하게 더 좋은 사양으로 교체 가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OS/360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채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전에도 시장점유율 매우 높았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스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36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으로 확실히 굳히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발매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만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억 달러라는 투자금 모두 회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위의 사진은 폭스바겐에 설치된 기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IB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 아메리카 항공에 온라인 업무처리용 컴퓨터 납품하여 온라인 좌석 예약이 가능해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3AE1-E570-4338-9E0B-1BE55AAA6B7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1C00-8FEB-4369-8823-DB5CC4D6893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D39E-A137-46DA-8B07-41F762B6A95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47D9-86F3-4B6D-9F53-018D99CA3B3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0EFC-82A0-422E-A6CD-7321068EEAA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F3DF-BC00-42CF-9950-74C4FDABA18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E4A4-0948-4B3A-9F65-742C2BAAAC2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0CB9-1770-42CF-9201-CFDC2D29E3F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A86F-D681-4FA5-BA38-9409A3307EC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45C5-2930-473E-B4FC-2A70ADE9C6C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AE4B-1543-4E61-9D51-4E4FE65881B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4A6E-6303-4D8D-B849-67C58325A57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니악과 같은 성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230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개의 트랜지스터 들어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참고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1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인텔 코어 프로세서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억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만개의 트랜지스터 들어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회로의 전선두께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0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㎛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재 인텔 마이크로프로세서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45 or 32 nm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A5A6-E812-49B1-97C6-D18EDB65777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C684-73F6-41E6-AD8A-FE4DD65DE56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자계산기의 소형화 경쟁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너무 복잡한 회로 설계 때문에 일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SI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회사들의 거절로 결국 미국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ntel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 의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ntel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과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sic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를 소형 전자계산기를 포함한 저사양 컴퓨터용으로 만들기로 합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메인프레임이나 슈퍼컴퓨터용이 아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2EDA-1457-4386-A023-0D5C319D015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089F-71AF-4C0E-80EA-C793C2D8C17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CC9F-7B78-4FA2-BD79-B27244B4043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89ED-EDFA-434C-95A7-8D29A9030A0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ntel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 원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emory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칩을 컴퓨터 회사에 납품하는 것이 주수입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래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PU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칩 소매 전략을 제대로 잡지 못하고 있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래서 칩 가격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36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달러에 책정했는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Ed Robert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 그것을 구입해 저가 컴퓨터를 만드는 데 사용한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ill Gate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aul Allen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메일을 보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ltair BASIC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을 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97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7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부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작품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icrosof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첫 작품이 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9CAE-A13E-4E12-BEEF-EC0DDB978F4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BFB4-FCE2-435D-9D77-2F208F53D74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3CD8-B3FE-47C2-85F7-277CE5B718E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32DB-2719-4378-BA47-C9A6A03D25D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A260-379B-410D-B5D7-586BBAE29DC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컴퓨터 해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꿈의 기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자비 출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CB16-0C8E-4A3D-9D41-55A6228793B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BC90-CDDE-4D2F-BB6C-00A8B325A59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애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스티브 잡스 부모집의 차고에서 시작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06AA-E884-4B91-A55E-2CE142E094E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8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애플의 매출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억 달러 돌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역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icrosof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pple BASIC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채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8FA2-E4E4-4A06-B958-C266EE3DE5E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FF10-94AF-4A65-911A-B7DC875A188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E340-64FC-475F-90E1-177D702678D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컴퓨터 운동가 및 아마추어 그룹의 이상은 저항에 직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곧바로 자본주의 시장에 편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A441-4C6F-4B30-8F86-1EA5F071131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8765-BD8C-4B5F-A059-83B0ED8C8AD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C83B-5DF5-42BE-93C5-D367E67BAE9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5ACF-A8D1-4694-B401-220954F7F80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946F-8967-4A2A-BFE8-1E96239A389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6CC9-C53A-4610-968F-56FA55CF86C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4158-4297-47ED-A52A-04179337CF5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커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amp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모클리 회사가 레밍턴랜드로 넘어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프루덴셜 생명보험사는 비싸서 계약 취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CB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5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대통령 선거 예측용으로 구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1%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표본만으로 아이젠하우어의 승리 정확히 예측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A380-758C-4FFE-A109-B09C58D2A6A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4FA0-9BF1-4F3C-B6CF-4DA0630ABEF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94D2-993C-4EE0-A139-78074BB8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31D3-178C-45BE-97E8-51563BB9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A859-8926-4E82-814B-02C629EE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88F-E8C0-4DC3-9062-3C670EC3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8D1B-28D0-4A46-BEE5-7FD671F2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5160-4359-4094-B6DF-8A6DD213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6BA2-9D5A-4DDF-BCDC-B0060E44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A659-3621-4544-89C1-5F0C320B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132-A982-41B9-91CF-5E3F3B9D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C4AD-AC39-4D1B-9219-567E331D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B63-72AF-4903-8824-6CA38ACA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F8B6-20C3-48E0-B20D-80AE836E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Click to edit the title text format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E555-4808-4A9E-A653-E7E0B3E0424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YecfV3ubP8" TargetMode="External"/><Relationship Id="rId2" Type="http://schemas.openxmlformats.org/officeDocument/2006/relationships/hyperlink" Target="http://www.youtube.com/watch?v=OYecfV3ubP8" TargetMode="Externa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컴퓨터는 어떻게 </a:t>
            </a:r>
            <a:br>
              <a:rPr sz="4400"/>
            </a:b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집안에 들어오게 되었을까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011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2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일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정동욱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초기 컴퓨터의 이미지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수치제어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(NC)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공작기계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(MIT-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공군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-GE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합작 개발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를 이용한 공장 자동화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숙련노동자의 공작기계 사용을 컴퓨터 프로그램으로 대체</a:t>
            </a:r>
            <a:endParaRPr b="0" lang="en-US" sz="30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SAGE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프로젝트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공군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-MIT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합작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) :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미국 전역의 레이더망과 공군기지를 실시간 연결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.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이를 그 중심에 있는 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MIT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의 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Whirlwind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컴퓨터가 감시하고 자동으로 통제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c000"/>
                </a:solidFill>
                <a:latin typeface="맑은 고딕"/>
              </a:rPr>
              <a:t>인간이 배제된 프로그램화된 기계에 의해 통제되는 세계</a:t>
            </a:r>
            <a:r>
              <a:rPr b="1" lang="en-US" sz="3000" spc="-1" strike="noStrike">
                <a:solidFill>
                  <a:srgbClr val="ffc000"/>
                </a:solidFill>
                <a:latin typeface="맑은 고딕"/>
              </a:rPr>
              <a:t>. </a:t>
            </a:r>
            <a:r>
              <a:rPr b="1" lang="ko-KR" sz="3000" spc="-1" strike="noStrike">
                <a:solidFill>
                  <a:srgbClr val="ffc000"/>
                </a:solidFill>
                <a:latin typeface="맑은 고딕"/>
              </a:rPr>
              <a:t>심지어 인간 세계조차 프로그램화된 전략적 행위자들 사이의 네트워크로 이해 </a:t>
            </a:r>
            <a:r>
              <a:rPr b="1" lang="en-US" sz="30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ffc000"/>
                </a:solidFill>
                <a:latin typeface="맑은 고딕"/>
              </a:rPr>
              <a:t> </a:t>
            </a:r>
            <a:r>
              <a:rPr b="1" lang="ko-KR" sz="3000" spc="-1" strike="noStrike">
                <a:solidFill>
                  <a:srgbClr val="ffc000"/>
                </a:solidFill>
                <a:latin typeface="맑은 고딕"/>
              </a:rPr>
              <a:t>게임이론</a:t>
            </a:r>
            <a:r>
              <a:rPr b="1" lang="en-US" sz="3000" spc="-1" strike="noStrike">
                <a:solidFill>
                  <a:srgbClr val="ffc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ffc000"/>
                </a:solidFill>
                <a:latin typeface="맑은 고딕"/>
              </a:rPr>
              <a:t>사이버네트워크</a:t>
            </a:r>
            <a:endParaRPr b="0" lang="en-US" sz="30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41920" y="2923920"/>
            <a:ext cx="3178080" cy="158436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000"/>
                </a:solidFill>
                <a:latin typeface="맑은 고딕"/>
              </a:rPr>
              <a:t>주 노동시간 단축으로 자동화에 의한 해고에 맞서자</a:t>
            </a:r>
            <a:r>
              <a:rPr b="1" lang="en-US" sz="2400" spc="-1" strike="noStrike">
                <a:solidFill>
                  <a:srgbClr val="ffc000"/>
                </a:solidFill>
                <a:latin typeface="맑은 고딕"/>
              </a:rPr>
              <a:t> </a:t>
            </a:r>
            <a:r>
              <a:rPr b="1" lang="en-US" sz="2400" spc="-1" strike="noStrike">
                <a:solidFill>
                  <a:srgbClr val="ffc000"/>
                </a:solidFill>
                <a:latin typeface="맑은 고딕"/>
              </a:rPr>
              <a:t>(1950</a:t>
            </a:r>
            <a:r>
              <a:rPr b="1" lang="ko-KR" sz="2400" spc="-1" strike="noStrike">
                <a:solidFill>
                  <a:srgbClr val="ffc000"/>
                </a:solidFill>
                <a:latin typeface="맑은 고딕"/>
              </a:rPr>
              <a:t>년대</a:t>
            </a:r>
            <a:r>
              <a:rPr b="1" lang="en-US" sz="2400" spc="-1" strike="noStrike">
                <a:solidFill>
                  <a:srgbClr val="ffc000"/>
                </a:solidFill>
                <a:latin typeface="맑은 고딕"/>
              </a:rPr>
              <a:t>)</a:t>
            </a:r>
            <a:endParaRPr b="1" lang="en-US" sz="24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74" name="Picture 4" descr="automation"/>
          <p:cNvPicPr/>
          <p:nvPr/>
        </p:nvPicPr>
        <p:blipFill>
          <a:blip r:embed="rId1"/>
          <a:stretch/>
        </p:blipFill>
        <p:spPr>
          <a:xfrm>
            <a:off x="539640" y="189000"/>
            <a:ext cx="49118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1960</a:t>
            </a: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년대 컴퓨터 발전의 두 방향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정부 및 기업용 메인프레임과 과학기술용 슈퍼컴퓨터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컴퓨터 업계의 거인 </a:t>
            </a: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IBM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2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차 세계대전 이전 회계 및 통계용 기기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일종의 기계식 컴퓨터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제조 판매 회사에서 뒤늦게 전자컴퓨터 업계에 진입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거대한 자본력과 판매망으로 순식간에 시장 장악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79" name="Picture 2" descr="http://upload.wikimedia.org/wikipedia/commons/thumb/5/51/IBM_logo.svg/250px-IBM_logo.svg.png"/>
          <p:cNvPicPr/>
          <p:nvPr/>
        </p:nvPicPr>
        <p:blipFill>
          <a:blip r:embed="rId1"/>
          <a:stretch/>
        </p:blipFill>
        <p:spPr>
          <a:xfrm>
            <a:off x="2268360" y="549360"/>
            <a:ext cx="453564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ile:DM IBM S360.jpg"/>
          <p:cNvPicPr/>
          <p:nvPr/>
        </p:nvPicPr>
        <p:blipFill>
          <a:blip r:embed="rId1"/>
          <a:stretch/>
        </p:blipFill>
        <p:spPr>
          <a:xfrm>
            <a:off x="0" y="287280"/>
            <a:ext cx="9145440" cy="6094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56000" y="5157720"/>
            <a:ext cx="4788000" cy="1224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IBM 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시스템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/360 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시리즈 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(1964)</a:t>
            </a:r>
            <a:br>
              <a:rPr sz="2500"/>
            </a:b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과학자와 기업가를 모두 만족시키겠다는 야심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. 2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년 만에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50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억 달러 투자금 회수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.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 </a:t>
            </a:r>
            <a:endParaRPr b="1" lang="en-US" sz="2500" spc="-1" strike="noStrike">
              <a:solidFill>
                <a:srgbClr val="ffc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://www.computermuseum.li/Testpage/Cray-1-Supercomputer-1976.gif"/>
          <p:cNvPicPr/>
          <p:nvPr/>
        </p:nvPicPr>
        <p:blipFill>
          <a:blip r:embed="rId2"/>
          <a:stretch/>
        </p:blipFill>
        <p:spPr>
          <a:xfrm>
            <a:off x="0" y="836640"/>
            <a:ext cx="6021360" cy="6021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the first fully-integrated sofaputer"/>
          <p:cNvPicPr/>
          <p:nvPr/>
        </p:nvPicPr>
        <p:blipFill>
          <a:blip r:embed="rId3"/>
          <a:stretch/>
        </p:blipFill>
        <p:spPr>
          <a:xfrm>
            <a:off x="250920" y="765000"/>
            <a:ext cx="5402160" cy="6093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0720" y="1988640"/>
            <a:ext cx="4643280" cy="100836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CRAY-1 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슈퍼컴퓨터 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(1976)</a:t>
            </a:r>
            <a:br>
              <a:rPr sz="2500"/>
            </a:b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계산에 있어 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IBM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의 수백배 성능</a:t>
            </a:r>
            <a:endParaRPr b="1" lang="en-US" sz="2200" spc="-1" strike="noStrike">
              <a:solidFill>
                <a:srgbClr val="ffc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저가상품 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‘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미니컴퓨터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’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수천만 원 정도로 저렴</a:t>
            </a:r>
            <a:endParaRPr b="0" lang="en-US" sz="25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연구실에 바로 배치 가능</a:t>
            </a:r>
            <a:endParaRPr b="0" lang="en-US" sz="25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DEC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의 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PDP-8 (1965)</a:t>
            </a:r>
            <a:endParaRPr b="0" lang="en-US" sz="25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50,000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대 이상 판매된 인기 모델</a:t>
            </a:r>
            <a:endParaRPr b="0" lang="en-US" sz="20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65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년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3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만 달러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73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년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6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천 달러</a:t>
            </a:r>
            <a:endParaRPr b="0" lang="en-US" sz="20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88" name="Picture 2" descr="File:PDP-8.jpg"/>
          <p:cNvPicPr/>
          <p:nvPr/>
        </p:nvPicPr>
        <p:blipFill>
          <a:blip r:embed="rId1"/>
          <a:stretch/>
        </p:blipFill>
        <p:spPr>
          <a:xfrm>
            <a:off x="4967280" y="1557360"/>
            <a:ext cx="37465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OS vs. 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응용 프로그램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컴퓨터를 이용하기 위해 기본적으로 필요한 기능을 갖춘 소프트웨어 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: OS</a:t>
            </a:r>
            <a:endParaRPr b="0" lang="en-US" sz="30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입력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/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출력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파일 관리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스케줄링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, GUI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등</a:t>
            </a:r>
            <a:endParaRPr b="0" lang="en-US" sz="26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컴퓨터를 보다 쉽게 사용하기 위해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1960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년대 미국방부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ARPA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에서 자금을 지원한 연구 프로젝트에서 타임 쉐어링 기법 등 수많은 아이디어 배출 </a:t>
            </a:r>
            <a:endParaRPr b="0" lang="en-US" sz="26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이후 여러 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OS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가 출현</a:t>
            </a:r>
            <a:endParaRPr b="0" lang="en-US" sz="30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UNIX(GE-MIT-Bell lab &amp;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국방부 지원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)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Linux(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리누스 토발즈 및 수많은 프로그래머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), MS-DOS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와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Windows(Microsoft), Mac &amp; iOS(Apple)</a:t>
            </a:r>
            <a:endParaRPr b="0" lang="en-US" sz="26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반도체</a:t>
            </a: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 </a:t>
            </a: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혁명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4437000"/>
            <a:ext cx="2952720" cy="1440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트랜지스터 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(1947)</a:t>
            </a:r>
            <a:br>
              <a:rPr sz="2500"/>
            </a:b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윌리엄 쇼클리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존 바딘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월터 브래튼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. AT&amp;T Bell Lab.</a:t>
            </a:r>
            <a:endParaRPr b="1" lang="en-US" sz="20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94" name="Picture 2" descr="http://postfiles11.naver.net/20110101_10/dounna_1293864290304LNSGT_GIF/transistor.gif?type=w3"/>
          <p:cNvPicPr/>
          <p:nvPr/>
        </p:nvPicPr>
        <p:blipFill>
          <a:blip r:embed="rId1"/>
          <a:stretch/>
        </p:blipFill>
        <p:spPr>
          <a:xfrm>
            <a:off x="3492360" y="549360"/>
            <a:ext cx="5327640" cy="532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pds16.egloos.com/pds/200909/21/41/d0097441_4ab78d00a7c2f.png"/>
          <p:cNvPicPr/>
          <p:nvPr/>
        </p:nvPicPr>
        <p:blipFill>
          <a:blip r:embed="rId2"/>
          <a:srcRect l="48643" t="-8462" r="-3419" b="-8462"/>
          <a:stretch/>
        </p:blipFill>
        <p:spPr>
          <a:xfrm>
            <a:off x="468360" y="549360"/>
            <a:ext cx="28670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ENIAC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19640" y="5660640"/>
            <a:ext cx="3456000" cy="64764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ENIAC (1946)</a:t>
            </a:r>
            <a:endParaRPr b="1" lang="en-US" sz="2500" spc="-1" strike="noStrike">
              <a:solidFill>
                <a:srgbClr val="ffc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22160" y="2349360"/>
            <a:ext cx="7772400" cy="27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반도체로 모든 부품을 만들 수 있다면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개개의 부품을 하나의 판 위에 늘어놓고 연결하는 것이 아니라 처음부터 하나의 반도체 위에 만드는 것이 간단하지 않은가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”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File:Kilby solid circuit.jpg"/>
          <p:cNvPicPr/>
          <p:nvPr/>
        </p:nvPicPr>
        <p:blipFill>
          <a:blip r:embed="rId1"/>
          <a:stretch/>
        </p:blipFill>
        <p:spPr>
          <a:xfrm>
            <a:off x="0" y="372960"/>
            <a:ext cx="9144000" cy="6080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02280" y="5445000"/>
            <a:ext cx="3178080" cy="93672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000"/>
                </a:solidFill>
                <a:latin typeface="맑은 고딕"/>
              </a:rPr>
              <a:t>최초의 </a:t>
            </a:r>
            <a:r>
              <a:rPr b="1" lang="en-US" sz="2400" spc="-1" strike="noStrike">
                <a:solidFill>
                  <a:srgbClr val="ffc000"/>
                </a:solidFill>
                <a:latin typeface="맑은 고딕"/>
              </a:rPr>
              <a:t>IC (1958)</a:t>
            </a:r>
            <a:br>
              <a:rPr sz="2400"/>
            </a:b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잭 킬비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. Texas Instrument </a:t>
            </a:r>
            <a:endParaRPr b="1" lang="en-US" sz="20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images.pennnet.com/articles/sst/thm/th_0702sstchange01.jpg"/>
          <p:cNvPicPr/>
          <p:nvPr/>
        </p:nvPicPr>
        <p:blipFill>
          <a:blip r:embed="rId1"/>
          <a:stretch/>
        </p:blipFill>
        <p:spPr>
          <a:xfrm>
            <a:off x="395280" y="836640"/>
            <a:ext cx="4916520" cy="51134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720" y="4941360"/>
            <a:ext cx="3311280" cy="100836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c000"/>
                </a:solidFill>
                <a:latin typeface="맑은 고딕"/>
              </a:rPr>
              <a:t>최초의 상업용 </a:t>
            </a:r>
            <a:r>
              <a:rPr b="1" lang="en-US" sz="2200" spc="-1" strike="noStrike">
                <a:solidFill>
                  <a:srgbClr val="ffc000"/>
                </a:solidFill>
                <a:latin typeface="맑은 고딕"/>
              </a:rPr>
              <a:t>IC (1961)</a:t>
            </a:r>
            <a:br>
              <a:rPr sz="2200"/>
            </a:b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로버트 노이스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. Fairchild</a:t>
            </a:r>
            <a:endParaRPr b="1" lang="en-US" sz="2000" spc="-1" strike="noStrike">
              <a:solidFill>
                <a:srgbClr val="ffc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7280" y="4005000"/>
            <a:ext cx="2819520" cy="158436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c000"/>
                </a:solidFill>
                <a:latin typeface="맑은 고딕"/>
              </a:rPr>
              <a:t>지멘스의 증폭기 </a:t>
            </a:r>
            <a:r>
              <a:rPr b="1" lang="en-US" sz="2000" spc="-1" strike="noStrike">
                <a:solidFill>
                  <a:srgbClr val="ffc000"/>
                </a:solidFill>
                <a:latin typeface="맑은 고딕"/>
              </a:rPr>
              <a:t>IC (1965).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1.5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맑은 고딕"/>
              </a:rPr>
              <a:t>2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에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3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개의 트랜지스터와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개의 저항이 들어 있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1" lang="en-US" sz="20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03" name="Picture 2" descr="http://img.tfd.com/cde/_ICSIEM.GIF"/>
          <p:cNvPicPr/>
          <p:nvPr/>
        </p:nvPicPr>
        <p:blipFill>
          <a:blip r:embed="rId1"/>
          <a:stretch/>
        </p:blipFill>
        <p:spPr>
          <a:xfrm>
            <a:off x="468360" y="836640"/>
            <a:ext cx="5167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어떻게 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IC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를 만들 수 있을까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순도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00%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가까운 실리콘 판을 준비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트랜지스터나 다이오드 등을 만들고 싶은 부분만 제외하고 마스킹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불순물이 포함된 가스 주입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마스킹 작업에 사진 기술 사용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c000"/>
                </a:solidFill>
                <a:latin typeface="맑은 고딕"/>
              </a:rPr>
              <a:t>: </a:t>
            </a:r>
            <a:r>
              <a:rPr b="0" lang="ko-KR" sz="2500" spc="-1" strike="noStrike">
                <a:solidFill>
                  <a:srgbClr val="ffc000"/>
                </a:solidFill>
                <a:latin typeface="맑은 고딕"/>
              </a:rPr>
              <a:t>실리콘 표면에 사진의 감광액을 바른 후 그 위에 마스킹 패턴을 슬라이드처럼 투영하면 빛이 닿은 부분만 변질되어 그곳만 씻어내면 마스크 완성</a:t>
            </a:r>
            <a:r>
              <a:rPr b="0" lang="en-US" sz="2500" spc="-1" strike="noStrike">
                <a:solidFill>
                  <a:srgbClr val="ffc000"/>
                </a:solidFill>
                <a:latin typeface="맑은 고딕"/>
              </a:rPr>
              <a:t>. </a:t>
            </a:r>
            <a:r>
              <a:rPr b="0" lang="ko-KR" sz="2500" spc="-1" strike="noStrike">
                <a:solidFill>
                  <a:srgbClr val="ffc000"/>
                </a:solidFill>
                <a:latin typeface="맑은 고딕"/>
              </a:rPr>
              <a:t>즉 회로도가 만들어짐</a:t>
            </a:r>
            <a:r>
              <a:rPr b="0" lang="en-US" sz="2500" spc="-1" strike="noStrike">
                <a:solidFill>
                  <a:srgbClr val="ffc000"/>
                </a:solidFill>
                <a:latin typeface="맑은 고딕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retrothing.typepad.com/photos/uncategorized/intel4004.jpg"/>
          <p:cNvPicPr/>
          <p:nvPr/>
        </p:nvPicPr>
        <p:blipFill>
          <a:blip r:embed="rId2"/>
          <a:stretch/>
        </p:blipFill>
        <p:spPr>
          <a:xfrm>
            <a:off x="-11160" y="0"/>
            <a:ext cx="9155160" cy="7124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73200" y="5373360"/>
            <a:ext cx="5770440" cy="107964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Intel 4004 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마이크로프로세서 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(1971)</a:t>
            </a:r>
            <a:br>
              <a:rPr sz="2500"/>
            </a:b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CPU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를 전체를 손톱 크기의 칩에 담았다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!</a:t>
            </a:r>
            <a:endParaRPr b="1" lang="en-US" sz="2200" spc="-1" strike="noStrike">
              <a:solidFill>
                <a:srgbClr val="ffc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Intel 4004 Microprocessor"/>
          <p:cNvPicPr/>
          <p:nvPr/>
        </p:nvPicPr>
        <p:blipFill>
          <a:blip r:embed="rId2"/>
          <a:stretch/>
        </p:blipFill>
        <p:spPr>
          <a:xfrm>
            <a:off x="0" y="0"/>
            <a:ext cx="91044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Intel 4004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의 용도는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63640" y="1628280"/>
            <a:ext cx="3529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일본 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Busicom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의 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소형 전자계산기용 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CPU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칩 디자이너 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: Federico Faggin and Ted Hoff of Intel, and Masatoshi Shima of Busicom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그 외에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114" name="Picture 5" descr="http://www.vintagecalculators.com/NCR18-36_1.jpg"/>
          <p:cNvPicPr/>
          <p:nvPr/>
        </p:nvPicPr>
        <p:blipFill>
          <a:blip r:embed="rId1"/>
          <a:stretch/>
        </p:blipFill>
        <p:spPr>
          <a:xfrm>
            <a:off x="468360" y="1628640"/>
            <a:ext cx="482436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Intel Ad, 1971"/>
          <p:cNvPicPr/>
          <p:nvPr/>
        </p:nvPicPr>
        <p:blipFill>
          <a:blip r:embed="rId1"/>
          <a:stretch/>
        </p:blipFill>
        <p:spPr>
          <a:xfrm>
            <a:off x="477720" y="303120"/>
            <a:ext cx="8197920" cy="47815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084640"/>
            <a:ext cx="8229600" cy="1548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c000"/>
                </a:solidFill>
                <a:latin typeface="맑은 고딕"/>
              </a:rPr>
              <a:t>Eletronic News</a:t>
            </a:r>
            <a:r>
              <a:rPr b="1" lang="en-US" sz="2200" spc="-1" strike="noStrike">
                <a:solidFill>
                  <a:srgbClr val="ffc000"/>
                </a:solidFill>
                <a:latin typeface="맑은 고딕"/>
              </a:rPr>
              <a:t> 1971</a:t>
            </a:r>
            <a:r>
              <a:rPr b="1" lang="ko-KR" sz="2200" spc="-1" strike="noStrike">
                <a:solidFill>
                  <a:srgbClr val="ffc000"/>
                </a:solidFill>
                <a:latin typeface="맑은 고딕"/>
              </a:rPr>
              <a:t>년 </a:t>
            </a:r>
            <a:r>
              <a:rPr b="1" lang="en-US" sz="2200" spc="-1" strike="noStrike">
                <a:solidFill>
                  <a:srgbClr val="ffc000"/>
                </a:solidFill>
                <a:latin typeface="맑은 고딕"/>
              </a:rPr>
              <a:t>11</a:t>
            </a:r>
            <a:r>
              <a:rPr b="1" lang="ko-KR" sz="2200" spc="-1" strike="noStrike">
                <a:solidFill>
                  <a:srgbClr val="ffc000"/>
                </a:solidFill>
                <a:latin typeface="맑은 고딕"/>
              </a:rPr>
              <a:t>월 </a:t>
            </a:r>
            <a:r>
              <a:rPr b="1" lang="en-US" sz="2200" spc="-1" strike="noStrike">
                <a:solidFill>
                  <a:srgbClr val="ffc000"/>
                </a:solidFill>
                <a:latin typeface="맑은 고딕"/>
              </a:rPr>
              <a:t>15</a:t>
            </a:r>
            <a:r>
              <a:rPr b="1" lang="ko-KR" sz="2200" spc="-1" strike="noStrike">
                <a:solidFill>
                  <a:srgbClr val="ffc000"/>
                </a:solidFill>
                <a:latin typeface="맑은 고딕"/>
              </a:rPr>
              <a:t>일자 </a:t>
            </a:r>
            <a:r>
              <a:rPr b="1" lang="en-US" sz="2200" spc="-1" strike="noStrike">
                <a:solidFill>
                  <a:srgbClr val="ffc000"/>
                </a:solidFill>
                <a:latin typeface="맑은 고딕"/>
              </a:rPr>
              <a:t>Intel</a:t>
            </a:r>
            <a:r>
              <a:rPr b="1" lang="ko-KR" sz="2200" spc="-1" strike="noStrike">
                <a:solidFill>
                  <a:srgbClr val="ffc000"/>
                </a:solidFill>
                <a:latin typeface="맑은 고딕"/>
              </a:rPr>
              <a:t>의 </a:t>
            </a:r>
            <a:r>
              <a:rPr b="1" lang="en-US" sz="2200" spc="-1" strike="noStrike">
                <a:solidFill>
                  <a:srgbClr val="ffc000"/>
                </a:solidFill>
                <a:latin typeface="맑은 고딕"/>
              </a:rPr>
              <a:t>4004 </a:t>
            </a:r>
            <a:r>
              <a:rPr b="1" lang="ko-KR" sz="2200" spc="-1" strike="noStrike">
                <a:solidFill>
                  <a:srgbClr val="ffc000"/>
                </a:solidFill>
                <a:latin typeface="맑은 고딕"/>
              </a:rPr>
              <a:t>칩 광고</a:t>
            </a:r>
            <a:br>
              <a:rPr sz="2200"/>
            </a:b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 최초로 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CPU 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칩을 소비자에게 직접 판매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. 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다양한 엔지니어들이 구매해 다양한 전자기기를 만드는 데 마음대로 사용하길 기대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1" lang="en-US" sz="2200" spc="-1" strike="noStrike">
              <a:solidFill>
                <a:srgbClr val="ffc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조용히 시작된 </a:t>
            </a: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PC </a:t>
            </a: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혁명</a:t>
            </a: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!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0" y="404640"/>
            <a:ext cx="9171000" cy="5877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202440" cy="64764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ENIAC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의 프로그램을 교체하는 모습</a:t>
            </a:r>
            <a:endParaRPr b="1" lang="en-US" sz="2500" spc="-1" strike="noStrike">
              <a:solidFill>
                <a:srgbClr val="ffc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Altair Ad"/>
          <p:cNvPicPr/>
          <p:nvPr/>
        </p:nvPicPr>
        <p:blipFill>
          <a:blip r:embed="rId1"/>
          <a:stretch/>
        </p:blipFill>
        <p:spPr>
          <a:xfrm>
            <a:off x="4356000" y="-243000"/>
            <a:ext cx="4351320" cy="5472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229360"/>
            <a:ext cx="8229600" cy="162864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c000"/>
                </a:solidFill>
                <a:latin typeface="맑은 고딕"/>
              </a:rPr>
              <a:t>최초의 상용 </a:t>
            </a:r>
            <a:r>
              <a:rPr b="1" lang="en-US" sz="3000" spc="-1" strike="noStrike">
                <a:solidFill>
                  <a:srgbClr val="ffc000"/>
                </a:solidFill>
                <a:latin typeface="맑은 고딕"/>
              </a:rPr>
              <a:t>PC: MITS Altair 8800 (1975)</a:t>
            </a:r>
            <a:br>
              <a:rPr sz="3000"/>
            </a:br>
            <a:r>
              <a:rPr b="0" i="1" lang="en-US" sz="2000" spc="-1" strike="noStrike">
                <a:solidFill>
                  <a:srgbClr val="ffffff"/>
                </a:solidFill>
                <a:latin typeface="맑은 고딕"/>
              </a:rPr>
              <a:t>Popular Electonics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등의 취미 잡지를 통해 조립식 우편 판매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. 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대당 약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$440 (Intel 8080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칩이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$360).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첫 달에만 수 천대 판매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1" lang="en-US" sz="20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21" name="Picture 2" descr="File:Popular Electronics Cover Jan 1975.jpg"/>
          <p:cNvPicPr/>
          <p:nvPr/>
        </p:nvPicPr>
        <p:blipFill>
          <a:blip r:embed="rId2"/>
          <a:stretch/>
        </p:blipFill>
        <p:spPr>
          <a:xfrm>
            <a:off x="468360" y="0"/>
            <a:ext cx="39337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File:Altair BASIC Paper Tape.jpg"/>
          <p:cNvPicPr/>
          <p:nvPr/>
        </p:nvPicPr>
        <p:blipFill>
          <a:blip r:embed="rId1"/>
          <a:stretch/>
        </p:blipFill>
        <p:spPr>
          <a:xfrm>
            <a:off x="468360" y="333360"/>
            <a:ext cx="8245440" cy="6191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000" y="691920"/>
            <a:ext cx="7210440" cy="85068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Microsoft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의 첫 작품 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Altair BASIC (1975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년 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7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월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)</a:t>
            </a:r>
            <a:endParaRPr b="1" lang="en-US" sz="25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누가 </a:t>
            </a: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Altair</a:t>
            </a: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를 구입했는가</a:t>
            </a: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22160" y="3645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1975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년 당시 이미 컴퓨터를 이용해 다양한 시도를 한 운동가 그룹과 아마추어 그룹 존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컴퓨터 메모리</a:t>
            </a:r>
            <a:br>
              <a:rPr sz="4000"/>
            </a:b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(Computer Memory)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미니컴 단말기를 공공장소에 놓고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주민이 사용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주민들은 이를 이용해 동네 버스시간표나 책방과 도서관의 책을 검색하는 등 컴퓨터 활용 영역을 넓혀나감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19280" y="2923920"/>
            <a:ext cx="6562800" cy="30258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컴퓨터는 대부분</a:t>
            </a:r>
            <a:br>
              <a:rPr sz="2200"/>
            </a:b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인간을 위해서보다 인간을 대항해서 사용되었다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.</a:t>
            </a:r>
            <a:br>
              <a:rPr sz="2200"/>
            </a:b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인간의 자유보다 통제를 위해 사용되었다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.</a:t>
            </a:r>
            <a:br>
              <a:rPr sz="2200"/>
            </a:b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이제 이를 바꿔야 할 시간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.</a:t>
            </a:r>
            <a:br>
              <a:rPr sz="2200"/>
            </a:b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우리는 이제</a:t>
            </a:r>
            <a:br>
              <a:rPr sz="2200"/>
            </a:b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민중의 컴퓨터 회사가 필요하다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.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ffc000"/>
                </a:solidFill>
                <a:latin typeface="맑은 고딕"/>
              </a:rPr>
              <a:t>&lt;</a:t>
            </a:r>
            <a:r>
              <a:rPr b="1" lang="ko-KR" sz="2200" spc="-1" strike="noStrike">
                <a:solidFill>
                  <a:srgbClr val="ffc000"/>
                </a:solidFill>
                <a:latin typeface="맑은 고딕"/>
              </a:rPr>
              <a:t>민중의 컴퓨터 회사</a:t>
            </a:r>
            <a:r>
              <a:rPr b="1" lang="en-US" sz="2200" spc="-1" strike="noStrike">
                <a:solidFill>
                  <a:srgbClr val="ffc000"/>
                </a:solidFill>
                <a:latin typeface="맑은 고딕"/>
              </a:rPr>
              <a:t>&gt; </a:t>
            </a:r>
            <a:r>
              <a:rPr b="1" lang="ko-KR" sz="2200" spc="-1" strike="noStrike">
                <a:solidFill>
                  <a:srgbClr val="ffc000"/>
                </a:solidFill>
                <a:latin typeface="맑은 고딕"/>
              </a:rPr>
              <a:t>소식지 </a:t>
            </a:r>
            <a:r>
              <a:rPr b="1" lang="en-US" sz="2200" spc="-1" strike="noStrike">
                <a:solidFill>
                  <a:srgbClr val="ffc000"/>
                </a:solidFill>
                <a:latin typeface="맑은 고딕"/>
              </a:rPr>
              <a:t>1972.</a:t>
            </a:r>
            <a:r>
              <a:rPr b="1" lang="ko-KR" sz="2200" spc="-1" strike="noStrike">
                <a:solidFill>
                  <a:srgbClr val="ffc000"/>
                </a:solidFill>
                <a:latin typeface="맑은 고딕"/>
              </a:rPr>
              <a:t> </a:t>
            </a:r>
            <a:r>
              <a:rPr b="1" lang="en-US" sz="2200" spc="-1" strike="noStrike">
                <a:solidFill>
                  <a:srgbClr val="ffc000"/>
                </a:solidFill>
                <a:latin typeface="맑은 고딕"/>
              </a:rPr>
              <a:t>10.</a:t>
            </a:r>
            <a:r>
              <a:rPr b="1" lang="ko-KR" sz="2200" spc="-1" strike="noStrike">
                <a:solidFill>
                  <a:srgbClr val="ffc000"/>
                </a:solidFill>
                <a:latin typeface="맑은 고딕"/>
              </a:rPr>
              <a:t> </a:t>
            </a:r>
            <a:endParaRPr b="1" lang="en-US" sz="22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2484360" y="0"/>
            <a:ext cx="4645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716000" y="4437000"/>
            <a:ext cx="3970440" cy="1656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테드 넬슨의 책 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(1974) </a:t>
            </a:r>
            <a:br>
              <a:rPr sz="2500"/>
            </a:b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the purpose of computers is human”</a:t>
            </a:r>
            <a:endParaRPr b="1" lang="en-US" sz="25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32" name="Picture 4" descr="Computer Lib"/>
          <p:cNvPicPr/>
          <p:nvPr/>
        </p:nvPicPr>
        <p:blipFill>
          <a:blip r:embed="rId1"/>
          <a:stretch/>
        </p:blipFill>
        <p:spPr>
          <a:xfrm>
            <a:off x="468360" y="620640"/>
            <a:ext cx="39369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homebrew 1975"/>
          <p:cNvPicPr/>
          <p:nvPr/>
        </p:nvPicPr>
        <p:blipFill>
          <a:blip r:embed="rId1"/>
          <a:stretch/>
        </p:blipFill>
        <p:spPr>
          <a:xfrm>
            <a:off x="468360" y="0"/>
            <a:ext cx="4833720" cy="3860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4005360"/>
            <a:ext cx="4689360" cy="251928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홈브루 컴퓨터 클럽</a:t>
            </a:r>
            <a:br>
              <a:rPr sz="2500"/>
            </a:b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아마추어 컴퓨터 애호가들의 모임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.</a:t>
            </a:r>
            <a:br>
              <a:rPr sz="2200"/>
            </a:b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컴퓨터를 직접 만들어 여러 가능성을 자유롭게 실험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.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최초의 신디사이저는 이 그룹의 멤버가 알테어를 통해 실험한 결과물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. </a:t>
            </a:r>
            <a:r>
              <a:rPr b="1" lang="ko-KR" sz="2200" spc="-1" strike="noStrike">
                <a:solidFill>
                  <a:srgbClr val="ffffff"/>
                </a:solidFill>
                <a:latin typeface="맑은 고딕"/>
              </a:rPr>
              <a:t>컴퓨터는 일종의 장난감</a:t>
            </a:r>
            <a:r>
              <a:rPr b="1" lang="en-US" sz="2200" spc="-1" strike="noStrike">
                <a:solidFill>
                  <a:srgbClr val="ffffff"/>
                </a:solidFill>
                <a:latin typeface="맑은 고딕"/>
              </a:rPr>
              <a:t>!</a:t>
            </a:r>
            <a:endParaRPr b="1" lang="en-US" sz="2200" spc="-1" strike="noStrike">
              <a:solidFill>
                <a:srgbClr val="ffc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www.yummyhits.com/wp-content/uploads/2011/10/steve-jobs-Steve-wozni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51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09920" y="129960"/>
            <a:ext cx="3754440" cy="113796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스티브 잡스와 </a:t>
            </a:r>
            <a:br>
              <a:rPr sz="2500"/>
            </a:b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스티브 워즈니악</a:t>
            </a:r>
            <a:endParaRPr b="1" lang="en-US" sz="25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File:Apple II.jpg"/>
          <p:cNvPicPr/>
          <p:nvPr/>
        </p:nvPicPr>
        <p:blipFill>
          <a:blip r:embed="rId1"/>
          <a:stretch/>
        </p:blipFill>
        <p:spPr>
          <a:xfrm>
            <a:off x="0" y="216000"/>
            <a:ext cx="9145440" cy="6092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616360" y="620280"/>
            <a:ext cx="3563640" cy="158436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“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IBM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의 힘을 민중에게” </a:t>
            </a:r>
            <a:br>
              <a:rPr sz="2500"/>
            </a:b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스티브 잡스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&amp;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워즈니악의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1977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년작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Apple II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의 모토</a:t>
            </a:r>
            <a:endParaRPr b="1" lang="en-US" sz="2000" spc="-1" strike="noStrike">
              <a:solidFill>
                <a:srgbClr val="ffc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96000" y="3068280"/>
            <a:ext cx="3348000" cy="230508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000"/>
                </a:solidFill>
                <a:latin typeface="맑은 고딕"/>
              </a:rPr>
              <a:t>매킨토시 </a:t>
            </a:r>
            <a:r>
              <a:rPr b="1" lang="en-US" sz="2800" spc="-1" strike="noStrike">
                <a:solidFill>
                  <a:srgbClr val="ffc000"/>
                </a:solidFill>
                <a:latin typeface="맑은 고딕"/>
              </a:rPr>
              <a:t>(1984)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획기적인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GUI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채택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(1979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년작 제록스의 팔로알토 연구소에서 제작한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ALTO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에서 모티브를 얻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맑은 고딕"/>
                <a:hlinkClick r:id="rId1"/>
              </a:rPr>
              <a:t>_x000b_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맑은 고딕"/>
                <a:hlinkClick r:id="rId2"/>
              </a:rPr>
              <a:t>http://www.youtube.com/watch?v=OYecfV3ubP8</a:t>
            </a:r>
            <a:endParaRPr b="1" lang="en-US" sz="20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41" name="Picture 2" descr="Jobs"/>
          <p:cNvPicPr/>
          <p:nvPr/>
        </p:nvPicPr>
        <p:blipFill>
          <a:blip r:embed="rId3"/>
          <a:stretch/>
        </p:blipFill>
        <p:spPr>
          <a:xfrm>
            <a:off x="468360" y="692280"/>
            <a:ext cx="5245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000"/>
                </a:solidFill>
                <a:latin typeface="맑은 고딕"/>
              </a:rPr>
              <a:t>이렇게 거대했던 컴퓨터가 </a:t>
            </a:r>
            <a:br>
              <a:rPr sz="4000"/>
            </a:br>
            <a:r>
              <a:rPr b="0" lang="ko-KR" sz="4000" spc="-1" strike="noStrike">
                <a:solidFill>
                  <a:srgbClr val="ffc000"/>
                </a:solidFill>
                <a:latin typeface="맑은 고딕"/>
              </a:rPr>
              <a:t>어떻게 집안에 들어왔을까</a:t>
            </a:r>
            <a:r>
              <a:rPr b="0" lang="en-US" sz="40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ttp://postfiles12.naver.net/20111006_59/dancekiki_1317868534350STLPd_JPEG/1.jpg?type=w2"/>
          <p:cNvPicPr/>
          <p:nvPr/>
        </p:nvPicPr>
        <p:blipFill>
          <a:blip r:embed="rId1"/>
          <a:stretch/>
        </p:blipFill>
        <p:spPr>
          <a:xfrm>
            <a:off x="395280" y="476280"/>
            <a:ext cx="3718080" cy="3313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11280" y="274680"/>
            <a:ext cx="4475160" cy="416232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대부분의 사용자가 베이직을 전혀 구입하지 않았다 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...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어떤 전문가가 한푼도 받지 않고 일을 할 것이며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, 3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년의 시간을 투자해서 프로그램을 하고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오류를 찾아낼 것인가 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...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컴퓨터 애호가들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당신들이 하는 짓은 도적질이다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.</a:t>
            </a:r>
            <a:br>
              <a:rPr sz="2400"/>
            </a:br>
            <a:br>
              <a:rPr sz="2400"/>
            </a:br>
            <a:r>
              <a:rPr b="1" lang="ko-KR" sz="2400" spc="-1" strike="noStrike">
                <a:solidFill>
                  <a:srgbClr val="ffc000"/>
                </a:solidFill>
                <a:latin typeface="맑은 고딕"/>
              </a:rPr>
              <a:t>빌 게이츠</a:t>
            </a:r>
            <a:r>
              <a:rPr b="1" lang="en-US" sz="2400" spc="-1" strike="noStrike">
                <a:solidFill>
                  <a:srgbClr val="ffc000"/>
                </a:solidFill>
                <a:latin typeface="맑은 고딕"/>
              </a:rPr>
              <a:t>, &lt;</a:t>
            </a:r>
            <a:r>
              <a:rPr b="1" lang="ko-KR" sz="2400" spc="-1" strike="noStrike">
                <a:solidFill>
                  <a:srgbClr val="ffc000"/>
                </a:solidFill>
                <a:latin typeface="맑은 고딕"/>
              </a:rPr>
              <a:t>컴퓨터 애호가들에게 보내는 공개 서한</a:t>
            </a:r>
            <a:r>
              <a:rPr b="1" lang="en-US" sz="2400" spc="-1" strike="noStrike">
                <a:solidFill>
                  <a:srgbClr val="ffc000"/>
                </a:solidFill>
                <a:latin typeface="맑은 고딕"/>
              </a:rPr>
              <a:t>&gt;, 1976.</a:t>
            </a:r>
            <a:endParaRPr b="1" lang="en-US" sz="2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5516640"/>
            <a:ext cx="4716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리처드 스톨만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맑은 고딕"/>
            </a:endParaRPr>
          </a:p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1985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년 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GNU 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선언문 발표</a:t>
            </a:r>
            <a:endParaRPr b="0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145" name="Picture 4" descr="http://upload.wikimedia.org/wikipedia/commons/thumb/c/cf/Portrait_-_Denmark_DTU_2007-3-31.jpg/225px-Portrait_-_Denmark_DTU_2007-3-31.jpg"/>
          <p:cNvPicPr/>
          <p:nvPr/>
        </p:nvPicPr>
        <p:blipFill>
          <a:blip r:embed="rId2"/>
          <a:stretch/>
        </p:blipFill>
        <p:spPr>
          <a:xfrm>
            <a:off x="4788000" y="4827600"/>
            <a:ext cx="19447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95640" y="2781000"/>
            <a:ext cx="3097080" cy="259236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IBM PC (1981)</a:t>
            </a:r>
            <a:br>
              <a:rPr sz="2500"/>
            </a:b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Intel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의 마이크로프로세서 등을 이용 조립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. OS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는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Microsoft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의 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MS-DOS 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채용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. 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결국 시장은 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IBM ‘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호환기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’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즉 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Win-tel</a:t>
            </a: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로 가득차게 됨</a:t>
            </a:r>
            <a:r>
              <a:rPr b="0" lang="en-US" sz="2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1" lang="en-US" sz="22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47" name="Picture 4" descr="First IBM PC"/>
          <p:cNvPicPr/>
          <p:nvPr/>
        </p:nvPicPr>
        <p:blipFill>
          <a:blip r:embed="rId1"/>
          <a:stretch/>
        </p:blipFill>
        <p:spPr>
          <a:xfrm>
            <a:off x="468360" y="333360"/>
            <a:ext cx="518328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컴퓨터가 집에 들어오기 위해서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컴퓨터가 작아지고 저렴해져야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트랜지스터와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IC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그리고 마이크로프로세서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저성능도 괜찮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미니컴퓨터와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PC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일반인도 다룰 수 있어야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프로그램 내장 방식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다루기 쉬운 운영체제 및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GUI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다양한 응용프로그램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프로그램 제작용 언어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드웨어적인 혁신 외에도 수많은 아마추어들의 이상과 헌신이 중요한 역할을 담당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http://postfiles16.naver.net/20111006_95/faas7777_1317868428508Twnct_JPEG/Steve_Jobs1955-2011.jpg?type=w2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프로그램 내장 방식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중앙처리장치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(CPU)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옆에 기억장치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(memory)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를 붙여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프로그램과 자료를 기억장치에 저장해 두었다가 프로그램을 불러 그 명령에 따라 자료를 차례로 불러내어 처리하는 방식</a:t>
            </a:r>
            <a:endParaRPr b="0" lang="en-US" sz="30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이제 새로운 작업을 위해서는 전기 배선을 교체하는 대신 프로그램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소프트웨어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만 바꿔 끼우면 됨</a:t>
            </a:r>
            <a:endParaRPr b="0" lang="en-US" sz="30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c000"/>
                </a:solidFill>
                <a:latin typeface="맑은 고딕"/>
              </a:rPr>
              <a:t>소프트웨어가 하드웨어로부터 완전히 분리</a:t>
            </a:r>
            <a:endParaRPr b="0" lang="en-US" sz="30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08360" y="3645000"/>
            <a:ext cx="3384360" cy="273672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맑은 고딕"/>
              </a:rPr>
              <a:t>EDSAC (</a:t>
            </a:r>
            <a:r>
              <a:rPr b="1" lang="ko-KR" sz="2400" spc="-1" strike="noStrike">
                <a:solidFill>
                  <a:srgbClr val="ffc000"/>
                </a:solidFill>
                <a:latin typeface="맑은 고딕"/>
              </a:rPr>
              <a:t>영국</a:t>
            </a:r>
            <a:r>
              <a:rPr b="1" lang="en-US" sz="2400" spc="-1" strike="noStrike">
                <a:solidFill>
                  <a:srgbClr val="ffc000"/>
                </a:solidFill>
                <a:latin typeface="맑은 고딕"/>
              </a:rPr>
              <a:t>, 1949)</a:t>
            </a:r>
            <a:br>
              <a:rPr sz="2400"/>
            </a:br>
            <a:r>
              <a:rPr b="0" lang="ko-KR" sz="2000" spc="-1" strike="noStrike">
                <a:solidFill>
                  <a:srgbClr val="ffc000"/>
                </a:solidFill>
                <a:latin typeface="맑은 고딕"/>
              </a:rPr>
              <a:t>윌키스가 제작한 최초의 프로그램 내장 방식 컴퓨터</a:t>
            </a:r>
            <a:r>
              <a:rPr b="0" lang="en-US" sz="2000" spc="-1" strike="noStrike">
                <a:solidFill>
                  <a:srgbClr val="ffc000"/>
                </a:solidFill>
                <a:latin typeface="맑은 고딕"/>
              </a:rPr>
              <a:t>. </a:t>
            </a:r>
            <a:r>
              <a:rPr b="0" lang="ko-KR" sz="2000" spc="-1" strike="noStrike">
                <a:solidFill>
                  <a:srgbClr val="ffc000"/>
                </a:solidFill>
                <a:latin typeface="맑은 고딕"/>
              </a:rPr>
              <a:t>폰 노이만의 </a:t>
            </a:r>
            <a:r>
              <a:rPr b="0" lang="en-US" sz="2000" spc="-1" strike="noStrike">
                <a:solidFill>
                  <a:srgbClr val="ffc000"/>
                </a:solidFill>
                <a:latin typeface="맑은 고딕"/>
              </a:rPr>
              <a:t>EDVAC </a:t>
            </a:r>
            <a:r>
              <a:rPr b="0" lang="ko-KR" sz="2000" spc="-1" strike="noStrike">
                <a:solidFill>
                  <a:srgbClr val="ffc000"/>
                </a:solidFill>
                <a:latin typeface="맑은 고딕"/>
              </a:rPr>
              <a:t>기획 보고서에서 아이디어를 얻음</a:t>
            </a:r>
            <a:r>
              <a:rPr b="0" lang="en-US" sz="2000" spc="-1" strike="noStrike">
                <a:solidFill>
                  <a:srgbClr val="ffc000"/>
                </a:solidFill>
                <a:latin typeface="맑은 고딕"/>
              </a:rPr>
              <a:t>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c000"/>
                </a:solidFill>
                <a:latin typeface="맑은 고딕"/>
              </a:rPr>
              <a:t>UNIVAC</a:t>
            </a:r>
            <a:r>
              <a:rPr b="0" lang="ko-KR" sz="2000" spc="-1" strike="noStrike">
                <a:solidFill>
                  <a:srgbClr val="ffc000"/>
                </a:solidFill>
                <a:latin typeface="맑은 고딕"/>
              </a:rPr>
              <a:t>과 </a:t>
            </a:r>
            <a:r>
              <a:rPr b="0" lang="en-US" sz="2000" spc="-1" strike="noStrike">
                <a:solidFill>
                  <a:srgbClr val="ffc000"/>
                </a:solidFill>
                <a:latin typeface="맑은 고딕"/>
              </a:rPr>
              <a:t>EDVAC</a:t>
            </a:r>
            <a:r>
              <a:rPr b="0" lang="ko-KR" sz="2000" spc="-1" strike="noStrike">
                <a:solidFill>
                  <a:srgbClr val="ffc000"/>
                </a:solidFill>
                <a:latin typeface="맑은 고딕"/>
              </a:rPr>
              <a:t>은 </a:t>
            </a:r>
            <a:br>
              <a:rPr sz="2000"/>
            </a:br>
            <a:r>
              <a:rPr b="0" lang="en-US" sz="2000" spc="-1" strike="noStrike">
                <a:solidFill>
                  <a:srgbClr val="ffc000"/>
                </a:solidFill>
                <a:latin typeface="맑은 고딕"/>
              </a:rPr>
              <a:t>1951</a:t>
            </a:r>
            <a:r>
              <a:rPr b="0" lang="ko-KR" sz="2000" spc="-1" strike="noStrike">
                <a:solidFill>
                  <a:srgbClr val="ffc000"/>
                </a:solidFill>
                <a:latin typeface="맑은 고딕"/>
              </a:rPr>
              <a:t>년에 완성됨</a:t>
            </a:r>
            <a:r>
              <a:rPr b="0" lang="en-US" sz="2000" spc="-1" strike="noStrike">
                <a:solidFill>
                  <a:srgbClr val="ffc000"/>
                </a:solidFill>
                <a:latin typeface="맑은 고딕"/>
              </a:rPr>
              <a:t>.</a:t>
            </a:r>
            <a:endParaRPr b="1" lang="en-US" sz="20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60" name="Picture 2" descr="File:EDSAC (10).jpg"/>
          <p:cNvPicPr/>
          <p:nvPr/>
        </p:nvPicPr>
        <p:blipFill>
          <a:blip r:embed="rId1"/>
          <a:stretch/>
        </p:blipFill>
        <p:spPr>
          <a:xfrm>
            <a:off x="271440" y="260280"/>
            <a:ext cx="50212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저장은 어떻게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364000" y="1600200"/>
          <a:ext cx="3322800" cy="3484440"/>
        </p:xfrm>
        <a:graphic>
          <a:graphicData uri="http://schemas.openxmlformats.org/drawingml/2006/table">
            <a:tbl>
              <a:tblPr/>
              <a:tblGrid>
                <a:gridCol w="576360"/>
                <a:gridCol w="576360"/>
                <a:gridCol w="2170080"/>
              </a:tblGrid>
              <a:tr h="7254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c000"/>
                          </a:solidFill>
                          <a:latin typeface="맑은 고딕"/>
                          <a:ea typeface="맑은 고딕"/>
                        </a:rPr>
                        <a:t>SR </a:t>
                      </a:r>
                      <a:r>
                        <a:rPr b="1" lang="ko-KR" sz="2500" spc="-1" strike="noStrike">
                          <a:solidFill>
                            <a:srgbClr val="ffc000"/>
                          </a:solidFill>
                          <a:latin typeface="맑은 고딕"/>
                          <a:ea typeface="맑은 고딕"/>
                        </a:rPr>
                        <a:t>래치 회로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작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 chan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Q=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Q=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 금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3" name="Picture 5" descr="File:R-S mk2.gif"/>
          <p:cNvPicPr/>
          <p:nvPr/>
        </p:nvPicPr>
        <p:blipFill>
          <a:blip r:embed="rId1"/>
          <a:stretch/>
        </p:blipFill>
        <p:spPr>
          <a:xfrm>
            <a:off x="468360" y="1628640"/>
            <a:ext cx="4762440" cy="347688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1765080" y="5373720"/>
            <a:ext cx="56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여기에 클락을 달아 더 안정되게 작동하도록 만든 것이 </a:t>
            </a:r>
            <a:r>
              <a:rPr b="1" lang="en-US" sz="2200" spc="-1" strike="noStrike">
                <a:solidFill>
                  <a:srgbClr val="ffc000"/>
                </a:solidFill>
                <a:latin typeface="맑은 고딕"/>
                <a:ea typeface="맑은 고딕"/>
              </a:rPr>
              <a:t>Flip-flop</a:t>
            </a:r>
            <a:br>
              <a:rPr sz="2200"/>
            </a:br>
            <a:r>
              <a:rPr b="1" lang="ko-KR" sz="2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그것을 다시 여러 개 이어서 만든 것이 </a:t>
            </a:r>
            <a:r>
              <a:rPr b="1" lang="en-US" sz="2200" spc="-1" strike="noStrike">
                <a:solidFill>
                  <a:srgbClr val="ffc000"/>
                </a:solidFill>
                <a:latin typeface="맑은 고딕"/>
                <a:ea typeface="맑은 고딕"/>
              </a:rPr>
              <a:t>RAM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File:UNIVAC-I-BRL61-0977.jpg"/>
          <p:cNvPicPr/>
          <p:nvPr/>
        </p:nvPicPr>
        <p:blipFill>
          <a:blip r:embed="rId2"/>
          <a:stretch/>
        </p:blipFill>
        <p:spPr>
          <a:xfrm>
            <a:off x="250920" y="1916280"/>
            <a:ext cx="8605800" cy="46465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4941360"/>
            <a:ext cx="6769080" cy="158292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ffc000"/>
                </a:solidFill>
                <a:latin typeface="맑은 고딕"/>
              </a:rPr>
              <a:t>최초의 상업용 컴퓨터 </a:t>
            </a:r>
            <a:r>
              <a:rPr b="1" lang="en-US" sz="2900" spc="-1" strike="noStrike">
                <a:solidFill>
                  <a:srgbClr val="ffc000"/>
                </a:solidFill>
                <a:latin typeface="맑은 고딕"/>
              </a:rPr>
              <a:t>UNIVAC (1951)</a:t>
            </a:r>
            <a:br>
              <a:rPr sz="2900"/>
            </a:b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미인구조사국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미공군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미육군지도국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뉴욕대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미원자력에너지국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미해군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레밍턴랜드 판매부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 GE,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메트로폴리탄 생명보험사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프랭클린 생명보험사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 CBS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방송사 등에서 구매</a:t>
            </a:r>
            <a:endParaRPr b="1" lang="en-US" sz="20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68" name="Picture 5" descr="UNIVAC2"/>
          <p:cNvPicPr/>
          <p:nvPr/>
        </p:nvPicPr>
        <p:blipFill>
          <a:blip r:embed="rId3"/>
          <a:stretch/>
        </p:blipFill>
        <p:spPr>
          <a:xfrm>
            <a:off x="250920" y="0"/>
            <a:ext cx="49813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42920" y="4005000"/>
            <a:ext cx="3457800" cy="208764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CBS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가 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1952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년 대통령 선거 결과를 예측하는 데 </a:t>
            </a:r>
            <a:r>
              <a:rPr b="1" lang="en-US" sz="2500" spc="-1" strike="noStrike">
                <a:solidFill>
                  <a:srgbClr val="ffc000"/>
                </a:solidFill>
                <a:latin typeface="맑은 고딕"/>
              </a:rPr>
              <a:t>UNIVAC</a:t>
            </a:r>
            <a:r>
              <a:rPr b="1" lang="ko-KR" sz="2500" spc="-1" strike="noStrike">
                <a:solidFill>
                  <a:srgbClr val="ffc000"/>
                </a:solidFill>
                <a:latin typeface="맑은 고딕"/>
              </a:rPr>
              <a:t>을 사용했다는 기사</a:t>
            </a:r>
            <a:endParaRPr b="1" lang="en-US" sz="25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70" name="Picture 2" descr="http://www.library.upenn.edu/exhibits/rbm/mauchly/img/11cronk.jpg"/>
          <p:cNvPicPr/>
          <p:nvPr/>
        </p:nvPicPr>
        <p:blipFill>
          <a:blip r:embed="rId1"/>
          <a:srcRect l="0" t="0" r="0" b="30222"/>
          <a:stretch/>
        </p:blipFill>
        <p:spPr>
          <a:xfrm>
            <a:off x="468360" y="333360"/>
            <a:ext cx="40384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04:47:35Z</dcterms:created>
  <dc:creator>zolaist</dc:creator>
  <dc:description/>
  <dc:language>en-US</dc:language>
  <cp:lastModifiedBy>zolaist</cp:lastModifiedBy>
  <dcterms:modified xsi:type="dcterms:W3CDTF">2011-10-11T22:13:36Z</dcterms:modified>
  <cp:revision>14</cp:revision>
  <dc:subject/>
  <dc:title>컴퓨터는 어떻게  덧셈, 뺄셈을 할까?</dc:title>
</cp:coreProperties>
</file>